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E93-FCD5-4D0D-A6E6-6BA1AF64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677-877B-483F-87F7-90959BF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F0C-D726-4D5B-B504-1F6DB67D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874-70A5-44DE-97E5-22F981D4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7199-62F0-41BD-95F7-55A36660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6BD1-F3DC-44DB-86E1-DC239F7C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37AD-415C-4DFB-91F7-EBC8304C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5029-5214-45A7-9534-DF1CCF7E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BCA2-110E-4472-8030-29099171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F77E-50A8-4433-BD36-44AB321E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A797-8E9D-450A-BEE9-3E3DCBFD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AFF-9AA9-4DCC-A971-BE2B4E0F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93A6-7A47-4E6B-AC4E-829326DF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7E7-1580-4755-B9EB-77B2560D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1E3B-D1CA-402C-B382-4446877D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4BAD-FF13-4561-BA69-AE4A14B48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8052-A072-43F9-946C-4EB7CC52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EFC-476F-4264-A458-3DBC7904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CBC-3ACF-400B-97B3-CFC431B3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8C9-8D53-4D02-A978-31EDA9BA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020-AC44-45F1-B445-4AE37E0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0373-F363-46CB-8229-664876B3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542-A88B-4B9A-AEEF-4825D43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01C2-7232-4C18-860D-D8CDE39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730-C589-433C-9D86-A53E59EB24A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4C00-1266-4EB3-9F2F-3D1A134CCDC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sumanasinc.com/webcontent/anisamples/nonmajorsbiology/proteinstructure.html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006666"/>
                </a:solidFill>
                <a:latin typeface="Comic Sans MS"/>
              </a:rPr>
              <a:t>PROTEINS</a:t>
            </a:r>
            <a:endParaRPr b="0" lang="en-US" sz="7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796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Protein Structure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2d1e"/>
                </a:solidFill>
                <a:latin typeface="Comic Sans MS"/>
              </a:rPr>
              <a:t>Secondary protein structures occur when protein chains coil or fol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When protein chains called polypeptides join together, the tertiary structure for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In the watery environment of a cell, proteins become globular in their quaternary struc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41812"/>
                </a:solidFill>
                <a:latin typeface="Arial"/>
              </a:rPr>
              <a:t>4 Main Groups-Protein Structu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87" t="781" r="11750" b="8986"/>
          <a:stretch/>
        </p:blipFill>
        <p:spPr>
          <a:xfrm>
            <a:off x="1042920" y="1268280"/>
            <a:ext cx="7078680" cy="4530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787" t="781" r="11750" b="8986"/>
          <a:stretch/>
        </p:blipFill>
        <p:spPr>
          <a:xfrm>
            <a:off x="1042920" y="1268280"/>
            <a:ext cx="7078680" cy="4530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331640" y="3141720"/>
            <a:ext cx="1140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ino aci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50920" y="2852280"/>
            <a:ext cx="0" cy="28908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24720" y="486900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a) Prim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2920" y="407664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700360" y="3933360"/>
            <a:ext cx="360360" cy="14292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4920" y="4581360"/>
            <a:ext cx="1131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pha helix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1640" y="907920"/>
            <a:ext cx="20811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b) Second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7120" y="1052640"/>
            <a:ext cx="1329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ted sheet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3141720"/>
            <a:ext cx="17082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c) Terti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2880" y="5734080"/>
            <a:ext cx="300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d) Quaternary structur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53120" y="2565360"/>
            <a:ext cx="15066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lypepti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ingle subunit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84720" y="1557360"/>
            <a:ext cx="1492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ydrogen bo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4360" y="1773000"/>
            <a:ext cx="360360" cy="142920"/>
          </a:xfrm>
          <a:prstGeom prst="line">
            <a:avLst/>
          </a:prstGeom>
          <a:ln w="158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51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Types of Amino Ac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Nonessential – body can make them from other amino acids (12 of the 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Essential – get from foods (8 of the 20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877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Comic Sans MS"/>
              </a:rPr>
              <a:t>Structure of Amino Acid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Amino acids have a central carbon with 4 things bonded to it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3947" t="10331" r="2665" b="14300"/>
          <a:stretch/>
        </p:blipFill>
        <p:spPr>
          <a:xfrm>
            <a:off x="4932360" y="1052640"/>
            <a:ext cx="3511440" cy="4530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468360" y="3500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Amino group-NH3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221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Carboxyl group-COO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50133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Hydrogen-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5877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Side group-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1268280"/>
            <a:ext cx="142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n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51640" y="1268280"/>
            <a:ext cx="18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boxy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roup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8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 gro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458136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ide group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580536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ucine -hydrophobi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53737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erine-hydrophilli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Linking Amino Aci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76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1812"/>
                </a:solidFill>
                <a:latin typeface="Verdana"/>
              </a:rPr>
              <a:t>Cells link amino acids together to make protein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41148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Peptide bonds form to hold the amino acids togeth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256" t="9338" r="7419" b="8345"/>
          <a:stretch/>
        </p:blipFill>
        <p:spPr>
          <a:xfrm>
            <a:off x="4716360" y="1052640"/>
            <a:ext cx="4241880" cy="5029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859280" y="32130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hydration Synthesi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96000" y="609300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ptide Bo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Protein Denaturati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Comic Sans MS"/>
              </a:rPr>
              <a:t>Changes in temperature &amp; pH can denature (unfold) a protein so it no longer works – can never return to its original st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414972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11280" y="3068640"/>
            <a:ext cx="30970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Cooking </a:t>
            </a:r>
            <a:r>
              <a:rPr b="0" lang="en-US" sz="20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denatures</a:t>
            </a:r>
            <a:r>
              <a:rPr b="1" lang="en-US" sz="2000" spc="-1" strike="noStrike">
                <a:solidFill>
                  <a:srgbClr val="006666"/>
                </a:solidFill>
                <a:latin typeface="Verdana"/>
              </a:rPr>
              <a:t> protein in egg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219640" y="2997360"/>
            <a:ext cx="2919600" cy="2189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4643280" y="5373720"/>
            <a:ext cx="394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2d1e"/>
                </a:solidFill>
                <a:latin typeface="Verdana"/>
              </a:rPr>
              <a:t>Milk protein separates into curds &amp; whey when it denatu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rotein Digestion &amp; Absor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roteins are crushed and moistened in the mouth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artial breakdown in the stomach. Hydrochloric acid denatures each protein’s strands – broken into polypeptides and amino ac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241812"/>
                </a:solidFill>
                <a:latin typeface="Comic Sans MS"/>
              </a:rPr>
              <a:t>Pancreatic &amp; intestinal enzymes split these polypeptides to oligo-, tri-, and dipept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Protein Digestion &amp; Absor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In the small intestine polypeptides are broken into peptide chains and amino aci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Specific carriers transport amino acids into the intestinal cells where they are used for energ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41812"/>
                </a:solidFill>
                <a:latin typeface="Comic Sans MS"/>
              </a:rPr>
              <a:t>Those not used by the intestinal cells are transported across the cell membrane into the blood stre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Energy yielding nutrients that contain nitrogen, carbon, hydrogen, and oxyg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Multiple functions -  growth and maintenance of body tiss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4kcal/gra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241812"/>
                </a:solidFill>
                <a:latin typeface="Verdana"/>
              </a:rPr>
              <a:t>When used to provide energy they can not be used for any other purpose (ie: building cell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27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Used to make important compounds (ie: enzymes, hormones, and antibodi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Building blocks of protein molecules are called </a:t>
            </a:r>
            <a:r>
              <a:rPr b="1" lang="en-CA" sz="2400" spc="-1" strike="noStrike" u="sng">
                <a:solidFill>
                  <a:srgbClr val="241812"/>
                </a:solidFill>
                <a:uFillTx/>
                <a:latin typeface="Verdana"/>
              </a:rPr>
              <a:t>amino acid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418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compounds with an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amino group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(-NH</a:t>
            </a:r>
            <a:r>
              <a:rPr b="1" lang="en-CA" sz="2400" spc="-1" strike="noStrike" baseline="-25000">
                <a:solidFill>
                  <a:srgbClr val="006666"/>
                </a:solidFill>
                <a:latin typeface="Verdana"/>
              </a:rPr>
              <a:t>2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)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on one end and a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carboxyl group</a:t>
            </a:r>
            <a:r>
              <a:rPr b="1" lang="en-CA" sz="2400" spc="-1" strike="noStrike">
                <a:solidFill>
                  <a:srgbClr val="006666"/>
                </a:solidFill>
                <a:latin typeface="Verdana"/>
              </a:rPr>
              <a:t> (-COOH)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 on the oth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41812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the portion that is different is a side chain, known as an </a:t>
            </a:r>
            <a:r>
              <a:rPr b="1" lang="en-CA" sz="2400" spc="-1" strike="noStrike" u="sng">
                <a:solidFill>
                  <a:srgbClr val="006666"/>
                </a:solidFill>
                <a:uFillTx/>
                <a:latin typeface="Verdana"/>
              </a:rPr>
              <a:t>R - group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	</a:t>
            </a:r>
            <a:r>
              <a:rPr b="1" lang="en-CA" sz="2400" spc="-1" strike="noStrike">
                <a:solidFill>
                  <a:srgbClr val="241812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580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made of 20 different amino acids </a:t>
            </a:r>
            <a:r>
              <a:rPr b="1" lang="en-US" sz="3200" spc="-1" strike="noStrike">
                <a:solidFill>
                  <a:srgbClr val="006666"/>
                </a:solidFill>
                <a:latin typeface="Comic Sans MS"/>
              </a:rPr>
              <a:t>(aka building blocks)</a:t>
            </a: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 linked in different ord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Verdana"/>
              </a:rPr>
              <a:t>DNA – storage of instructions for arranging amino acids into different protei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Protein 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High quality protein in meat, poultry, and fish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Animal foods are sources of complete protei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Protein provided by plant sources is of lower qual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Plants are sources of incomplete proteins – missing or short in essential amino aci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6516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Types of Prote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Verdana"/>
              </a:rPr>
              <a:t>Proteins are generally classified as either fibrous or globula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Structural proteins - collagen, silk, microtubu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Regulatory proteins (hormones) - insulin, growth hormones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Contractile proteins - Actin, myosin, dynei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41812"/>
                </a:solidFill>
                <a:latin typeface="Verdana"/>
              </a:rPr>
              <a:t>Transport proteins - hemoglobin, myoglobi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0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Comic Sans MS"/>
              </a:rPr>
              <a:t>Types of Proteins cont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Storage proteins - egg white, seed prote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Protective proteins – antibod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Membrane proteins - membrane-transport, channel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1812"/>
                </a:solidFill>
                <a:latin typeface="Verdana"/>
              </a:rPr>
              <a:t>Enzymes - most proteins ending in -a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brous Protei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ka sclero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ound in anim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ually used to construct connective tissues, tendons, bone and muscle fi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Globular 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heroprotei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st known is hemoglobi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 like enzymes, messengers and transpor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Primary Protein Structur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3827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Comic Sans MS"/>
              </a:rPr>
              <a:t>The primary structure is the specific sequence of amino acids in a protei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1767" t="3388" r="2940" b="3795"/>
          <a:stretch/>
        </p:blipFill>
        <p:spPr>
          <a:xfrm>
            <a:off x="4262400" y="1219320"/>
            <a:ext cx="4881600" cy="5638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340000" y="573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Comic Sans MS"/>
              </a:rPr>
              <a:t>Amino Aci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92360" y="4653000"/>
            <a:ext cx="1905120" cy="990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9T19:56:02Z</dcterms:created>
  <dc:creator>MattJodi</dc:creator>
  <dc:description/>
  <dc:language>en-US</dc:language>
  <cp:lastModifiedBy>nbdoe</cp:lastModifiedBy>
  <dcterms:modified xsi:type="dcterms:W3CDTF">2008-04-10T11:04:34Z</dcterms:modified>
  <cp:revision>16</cp:revision>
  <dc:subject/>
  <dc:title>PROTEINS</dc:title>
</cp:coreProperties>
</file>